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3EC0-F453-4D06-A991-DAA98F89DA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CEBE-0475-4FA8-85D3-F8259F50E8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4881-73F0-4F14-A3C8-62A5F5AA92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3875-DBC5-4791-8B40-C8BF80685D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DED2-F3B1-4058-9F64-E94ED0DE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0C3C-B46C-4ED8-944F-6DF81BB8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5475-4E3E-4882-A2A8-477B70072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1BE2-781B-4BBD-872B-6685AAC9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86A1-3BB9-4D87-92B4-CFC353A4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1679-9E13-43D9-A186-DB41A8A2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1056-B003-467D-A2F1-CDBDE3AD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4FDE-F6D8-4877-973D-5C041812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686A-36A4-499A-80D6-3C715176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1860-A5BE-4E56-809A-262BFA23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394F-7A3E-47D5-A003-13572F53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B01F-27E8-445A-8A21-F1C80E25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7429-E595-4DD0-9F58-68817B9EC7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50% Myth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we need new cardiovascular risk factor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Myth: “ just 50% of CHD cases are explained by classical risk factors “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ert Beaglehole (2002)  stated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 J Epidemiol. 2002 Dec;31(6):1117-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ource of this assertion is very difficult to disc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from existing studies shows that the classical risk factors explain most cases of CH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cluded the search for new CHD risk factors is just occupational therapy for epidemiolog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re recently, InterHEART, an international case-control study provided valuable data to use in this debat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The exerc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ease address these questions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proportion of CHD burden could be attributed to diet and lifestyle risk factor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stify your answer and support it  from the strengths you identify in this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der the weaknesses that you identified in this paper, what other evidence you will need to support your conclu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odolog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de  4 groups. All groups starts with the abstract. Then groups will share out the sections, one group doing Introduction, one the Methods, Results [first three paragraphs , please focus on Table 3,4 and 5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e critical appraisal skills checklist to help you decide on the quality of this case-control study and to summarize the main resul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41400" y="1600200"/>
          <a:ext cx="89233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0" y="1600200"/>
                    <a:ext cx="89233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3"/>
          <p:cNvSpPr/>
          <p:nvPr/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TERHEART Study </a:t>
            </a: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”nine potentially modifiable risk factors account for over 90% of the risk of an initial acute myocardial infarction”  </a:t>
            </a:r>
            <a:r>
              <a:rPr b="1" i="1" lang="en-GB" sz="2100" spc="-1" strike="noStrike">
                <a:solidFill>
                  <a:srgbClr val="ffff00"/>
                </a:solidFill>
                <a:latin typeface="Arial"/>
              </a:rPr>
              <a:t>Population attributable risk fraction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57200" y="6248520"/>
            <a:ext cx="822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Salim Yusuf et al .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 </a:t>
            </a: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Effect of potentially modifiable risk factors associated with myocardial infarction in 52 countries (the INTERHEART study).  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L</a:t>
            </a:r>
            <a:r>
              <a:rPr b="1" i="1" lang="en-GB" sz="1400" spc="-1" strike="noStrike">
                <a:solidFill>
                  <a:srgbClr val="ff9933"/>
                </a:solidFill>
                <a:latin typeface="Comic Sans MS"/>
              </a:rPr>
              <a:t>ancet </a:t>
            </a:r>
            <a:r>
              <a:rPr b="1" i="1" lang="en-GB" sz="1200" spc="-1" strike="noStrike">
                <a:solidFill>
                  <a:srgbClr val="ff9933"/>
                </a:solidFill>
                <a:latin typeface="Verdana"/>
                <a:ea typeface="Times New Roman"/>
              </a:rPr>
              <a:t> 364  9437   11 Sept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457200" y="6858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TERHEART 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en-GB" sz="4400" spc="-1" strike="noStrike">
                <a:solidFill>
                  <a:srgbClr val="ffff00"/>
                </a:solidFill>
                <a:latin typeface="Comic Sans M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457200" y="6248520"/>
            <a:ext cx="822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Salim Yusuf et al .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 </a:t>
            </a: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Effect of potentially modifiable risk factors associated with myocardial infarction in 52 countries (the INTERHEART study).  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L</a:t>
            </a:r>
            <a:r>
              <a:rPr b="1" i="1" lang="en-GB" sz="1400" spc="-1" strike="noStrike">
                <a:solidFill>
                  <a:srgbClr val="ff9933"/>
                </a:solidFill>
                <a:latin typeface="Comic Sans MS"/>
              </a:rPr>
              <a:t>ancet </a:t>
            </a:r>
            <a:r>
              <a:rPr b="1" i="1" lang="en-GB" sz="1200" spc="-1" strike="noStrike">
                <a:solidFill>
                  <a:srgbClr val="ff9933"/>
                </a:solidFill>
                <a:latin typeface="Verdana"/>
                <a:ea typeface="Times New Roman"/>
              </a:rPr>
              <a:t> 364  9437   11 Sept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533520" y="23623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nine potentially modifiable risk factors account for over 90% of the risk of an initial acute myocardial infarction [AM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Abnormal lipids, smoking, hypertension, diabetes, abdominal obesity, psychosocial factors, consumption of fruits, vegetables, and alcohol, and regular physical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9 risk factors account for most of AMI risk worldwide in both sexes and at all ages in all reg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prevention strategies can be based on similar principles worldwide and have the potential to prevent most premature A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ting Services</cp:lastModifiedBy>
  <dcterms:modified xsi:type="dcterms:W3CDTF">2008-04-11T08:09:2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